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320-9671-4DF2-BE89-8058AD29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C0D-1ADA-4FBC-BD13-92129182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3B3-1B12-453B-9626-A95ADDA6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1AA-AB50-4C51-9B76-D33BC5CD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C52-6C3A-427B-9E7A-CAB54C40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D31-3D7B-4A1A-B66D-F96579F9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AF1D-E9CE-42E9-B183-371D63D3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F39C-7850-40E5-80CF-3C3FADC9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E0FD-127A-4FD0-A195-21C9B07E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141-00E6-446D-8963-34C9CDAC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957D-C3FD-45A5-AABD-F69074F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6B6F-201D-4841-A806-06B47B4B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2FE5-407C-478F-A483-0FAD46F9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9A70-83F6-42D6-809F-7A42A65B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6E4E-5816-40CB-9C68-7C20D885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CF81-B0C8-4F6A-AEA6-2161D42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6799-7E2E-4654-8E62-42A26A64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DC53-E429-4871-8311-797DFCDC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021E-A1BE-4C15-B975-1B5D4B45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62F50-1800-4277-B702-6AEB4023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560-07E2-483F-B27E-5B89D4E4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6D1E-F301-4F99-9316-1395CCD9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B47F6-0EE9-40B1-84F2-98FC025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B5CB-097E-4F31-948A-EF26A0E3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82F9-2261-4CE2-8D9E-AF34E747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C473-E9C9-48D5-A9D9-9BF34E1C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4517-AED8-47FE-BF42-4C8D1D52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8622-6BC0-4DA3-8F37-464A7DA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069D-4BAB-4257-92DE-52A3FB4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6168-3EBB-4BCD-ABC8-389F4172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6B0B-D21C-45D5-9D34-0BA431CD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C4F-ACA6-4323-894B-B3C92B63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01ED-17AB-4EFA-8F68-D377683E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8DD6-64E2-47FE-9011-1382343F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97A93-20D0-4CDE-900C-DF44351F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956B-F0B3-4871-BDD7-44090816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6AB4F-44D3-49D2-AF89-93B5C271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EC0A7-FBF3-4EBA-ADAB-23FA4A2C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7DB4-C52F-4184-BD9E-28C21876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227D2-0DAC-4929-B01D-ECA5702B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D048-D31B-43AC-ADD4-D2083703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6DA0-DACD-4A2E-A318-4D6D4413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92F-AF7B-4959-9301-63611BC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9F08-6E62-4B10-B692-1199D795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F836-1458-466B-8D99-BFEABF12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3A21-B21D-4909-B967-34ED7319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434-0F03-45D1-ADA8-0DD9927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248-0193-447F-A9E9-07609D88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387AFD0-4BFD-4C2C-BB57-391D68C1E18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8E12DBD-237E-40C4-92E8-227E34348A2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C91123F-5AEA-429C-9B0F-26BD6462266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A0C704D-8D03-4E09-A8FF-DC9E9043750D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jaśnij pojęcia: aseptyka, antyseptyka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Aseptyka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 – to niedopuszczenie drobnoustrojów chorobotwórczych do rany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Antyseptyka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 – to usunięcie drobnoustrojów, które dostały się do rany 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6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